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2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30.png" ContentType="image/png"/>
  <Override PartName="/ppt/media/image5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A0E832-2954-4925-888B-29991B88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685FB2-1330-45C3-9DCA-A8C09B6EFB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FFE6EA-8350-4869-BDE0-AF947F9AB2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36B-56C2-4810-8340-A5FDA3DF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0D6-744C-4365-8B4A-1611F47F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996-2906-4C9C-A6D7-E314CD2C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4FC-8334-4639-A09C-4D39E747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C5F3-28D7-4391-8279-6D6DD2E2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7088-63F4-4D77-9E91-C671B5B0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3D46-6280-4FF1-8729-37E733C4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62ED-4DAC-413F-B556-50715163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31B3-D692-4073-B1FD-92F3199D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5E9C-7E02-4EFA-9F05-32688B7D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F9B4-0606-4E29-BD6B-C574E04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43C-CA23-4B02-B1AF-937A0550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D5BD-D694-4358-B8EF-A401D9E8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1BD7-6FA5-47C3-AD32-1B7BBB07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5FB7-9CCB-4784-9E45-9841E4A0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46DD-8EFB-4919-8BA7-48B27ED9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F57E-DE7A-4527-B329-3FCBB828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1A2-8E31-446F-BDC5-2B6BB1AA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7C3-E295-4E93-BDDA-39F7CBC6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79C-EBF1-4433-9522-3F30F1EC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317-A5BF-405B-9BD4-849F1416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9BE-8249-47E3-A991-CBED69DC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FC6-00BE-472E-BAA4-5E618BC1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602-058B-43F0-AEDC-65C43323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BDF0-DA03-4473-A996-76C0465830A0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DE59-3E0C-4376-9D05-D1177327CCC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pbs.org/wgbh/aia/part4/4h1567b.html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7778880" cy="334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Francis Scott Key 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rites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ar Spangled Banner</a:t>
            </a:r>
            <a:r>
              <a:rPr b="1" lang="ja-JP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ational Anthem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.S. won at New Orlean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eaty of Ghent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Ended the war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Both sides didn</a:t>
            </a:r>
            <a:r>
              <a:rPr b="0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 think they could wi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howed the U.S. could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and up to the British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2" name="Picture 5" descr="287538w"/>
          <p:cNvPicPr/>
          <p:nvPr/>
        </p:nvPicPr>
        <p:blipFill>
          <a:blip r:embed="rId1"/>
          <a:stretch/>
        </p:blipFill>
        <p:spPr>
          <a:xfrm>
            <a:off x="6956280" y="533520"/>
            <a:ext cx="218772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327776w"/>
          <p:cNvPicPr/>
          <p:nvPr/>
        </p:nvPicPr>
        <p:blipFill>
          <a:blip r:embed="rId2"/>
          <a:stretch/>
        </p:blipFill>
        <p:spPr>
          <a:xfrm>
            <a:off x="5410080" y="4448160"/>
            <a:ext cx="3200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-36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**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EXAS Republic: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 Americans settle in Texas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Belongs to new country- Mexico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Mexico wants Americans to learn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customs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*No more Americans: Texas is MAD!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 Texas asks to leave Mexico and be on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heir own, Mexico says NO!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 Houston chosen as leader of Texas Army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5" descr="271724w"/>
          <p:cNvPicPr/>
          <p:nvPr/>
        </p:nvPicPr>
        <p:blipFill>
          <a:blip r:embed="rId2"/>
          <a:stretch/>
        </p:blipFill>
        <p:spPr>
          <a:xfrm>
            <a:off x="7391520" y="0"/>
            <a:ext cx="16412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-150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Battle for Independ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Mexico is winning at fir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Alamo (1836)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xans stationed at Alamo; Mexico v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xas. Mexico breaks through and kills all Tex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Texans Recover- Capture Santa Anna (Dictato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9" name="Picture 5" descr="623524w"/>
          <p:cNvPicPr/>
          <p:nvPr/>
        </p:nvPicPr>
        <p:blipFill>
          <a:blip r:embed="rId1"/>
          <a:stretch/>
        </p:blipFill>
        <p:spPr>
          <a:xfrm>
            <a:off x="457200" y="2895480"/>
            <a:ext cx="3857760" cy="266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290670w"/>
          <p:cNvPicPr/>
          <p:nvPr/>
        </p:nvPicPr>
        <p:blipFill>
          <a:blip r:embed="rId2"/>
          <a:stretch/>
        </p:blipFill>
        <p:spPr>
          <a:xfrm>
            <a:off x="4572000" y="2819520"/>
            <a:ext cx="3857760" cy="2809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228600" y="56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bering approximately 189 men, the Texans fought off the Mexicans, who numbered around 3,000-4,000 troops, for 13 days until the Mexican Army finally overran the Alamo on March 6, 1836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5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-36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1836- Texas is FREE- On their own!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sks to join the U.S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.S. says NO- North doesn’t like slaver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inally YES as slave state            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Annexed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to add in 1845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5" descr="265783"/>
          <p:cNvPicPr/>
          <p:nvPr/>
        </p:nvPicPr>
        <p:blipFill>
          <a:blip r:embed="rId1"/>
          <a:stretch/>
        </p:blipFill>
        <p:spPr>
          <a:xfrm>
            <a:off x="2438280" y="3216240"/>
            <a:ext cx="357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ectangle 2" descr=""/>
          <p:cNvPicPr/>
          <p:nvPr/>
        </p:nvPicPr>
        <p:blipFill>
          <a:blip r:embed="rId1"/>
          <a:stretch/>
        </p:blipFill>
        <p:spPr>
          <a:xfrm>
            <a:off x="457200" y="-60480"/>
            <a:ext cx="8229600" cy="1376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1. Mexico starts to welcome Americans into    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its territories (New Mexico &amp;  California)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2.U.S. Annexes (adds) Texas (Upset Mexico)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3. U.S. thought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exas boarder at Rio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Grande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                    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4.  Mexico thought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boarder at  Nueces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River</a:t>
            </a:r>
            <a:r>
              <a:rPr b="0" lang="en-US" sz="33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7" name="Picture 5" descr="266400"/>
          <p:cNvPicPr/>
          <p:nvPr/>
        </p:nvPicPr>
        <p:blipFill>
          <a:blip r:embed="rId2"/>
          <a:stretch/>
        </p:blipFill>
        <p:spPr>
          <a:xfrm>
            <a:off x="0" y="3048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1843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exico v. U.S.</a:t>
            </a:r>
            <a:endParaRPr b="0" lang="en-US" sz="4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Many Americans were against the war (Why?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U.S. Wins Easily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eaty of Guadalupe Hidalgo (1848)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nds War ($15 million) Mexico cedes (gave up) California &amp; all of Southwest gives Mexico mill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</a:t>
            </a:r>
            <a:r>
              <a:rPr b="1" lang="en-US" sz="3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Gadsden Purchase-</a:t>
            </a:r>
            <a:r>
              <a:rPr b="1" lang="en-US" sz="3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($10 million) for S.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Arizona and Southern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ew Mexic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Picture 5" descr="266400"/>
          <p:cNvPicPr/>
          <p:nvPr/>
        </p:nvPicPr>
        <p:blipFill>
          <a:blip r:embed="rId1"/>
          <a:stretch/>
        </p:blipFill>
        <p:spPr>
          <a:xfrm>
            <a:off x="0" y="3726000"/>
            <a:ext cx="4419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378000" y="-12600"/>
            <a:ext cx="8235720" cy="823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** Native Americ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President Jackson wanted to open up the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and  from Georgia to Mississippi for farming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Indian Removal Act of 1830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Passed by Congr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Ordered Indians to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give up lands East of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Mississippi to trad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for land in Oklaho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BAD LAND!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3" name="Picture 9" descr="266321"/>
          <p:cNvPicPr/>
          <p:nvPr/>
        </p:nvPicPr>
        <p:blipFill>
          <a:blip r:embed="rId2"/>
          <a:srcRect l="7111" t="15947" r="2370" b="9568"/>
          <a:stretch/>
        </p:blipFill>
        <p:spPr>
          <a:xfrm>
            <a:off x="0" y="3276720"/>
            <a:ext cx="4870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-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erokee Refu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Cherokee sue in Supreme Court to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op removal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Jackson ignores orde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1835- some Cherokee sign treaty but most of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17,000 do not agree and will not accept 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2.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ail of Tears: 1838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Trail from Georgia to Oklahoma. Many die during 800 mile march, treated bad by soldiers, hungry, cold, diseas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Forced Out: Jackson Uses Military – Sends 7,000 troops in to force remova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08800" cy="1146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8" name="Picture 5" descr="The Trail of Tea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he Trail of Tears, historical oil painting by Max D. Standley"/>
          <p:cNvPicPr/>
          <p:nvPr/>
        </p:nvPicPr>
        <p:blipFill>
          <a:blip r:embed="rId4"/>
          <a:stretch/>
        </p:blipFill>
        <p:spPr>
          <a:xfrm>
            <a:off x="3505320" y="2971800"/>
            <a:ext cx="54864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-36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** Manifest Destiny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1840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– Belief that the U.S. and it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people had the right to 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lonize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”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and use all territory from Atlantic to Pacific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ountain Men: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Early explorers head into Louisian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Send stories and goods back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Led people to explore the Wes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22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lnSpc>
                <a:spcPct val="80000"/>
              </a:lnSpc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. 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 Antiqua"/>
              </a:rPr>
              <a:t>Louisiana Purchas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1.Purchased from France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-  1803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-$15 Million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(Napoleon Sells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2.  Geographic Locatio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*East- Mississippi River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4" name="Picture 5" descr="an illustration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006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Promise of rich land in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Orego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Oregon Trail-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ough trail, harsh conditions, not enough food, people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DIE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Both U.S. and Great Britain said they owned Orego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U.S. adds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5,000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more people &amp; British don</a:t>
            </a:r>
            <a:r>
              <a:rPr b="1" lang="ja-JP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1846 agreement to set border at the </a:t>
            </a:r>
            <a:r>
              <a:rPr b="1" i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49th Parallel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Oregon, Washington, Idaho, Wyoming, Montana.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Picture 5" descr="291464"/>
          <p:cNvPicPr/>
          <p:nvPr/>
        </p:nvPicPr>
        <p:blipFill>
          <a:blip r:embed="rId2"/>
          <a:stretch/>
        </p:blipFill>
        <p:spPr>
          <a:xfrm>
            <a:off x="1676520" y="990720"/>
            <a:ext cx="57150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LIFORNIA!!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After </a:t>
            </a:r>
            <a:r>
              <a:rPr b="1" lang="en-US" sz="37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Guadalupe Hidalgo 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1848): belongs to U.S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OLD RUSH!! 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1848/49  (49</a:t>
            </a:r>
            <a:r>
              <a:rPr b="1" lang="ja-JP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rs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Gold found at Sutter</a:t>
            </a:r>
            <a:r>
              <a:rPr b="1" lang="ja-JP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Mill 1848  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100,000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people come between 1848-1849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Boomtowns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No Government /Rough Towns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coming a State:  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1850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*</a:t>
            </a:r>
            <a:r>
              <a:rPr b="1" lang="en-US" sz="37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Banned Slavery: 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eated trouble in Congress!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4" name="Picture 5" descr="265717"/>
          <p:cNvPicPr/>
          <p:nvPr/>
        </p:nvPicPr>
        <p:blipFill>
          <a:blip r:embed="rId1"/>
          <a:stretch/>
        </p:blipFill>
        <p:spPr>
          <a:xfrm>
            <a:off x="380880" y="228600"/>
            <a:ext cx="8502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5" descr="265769"/>
          <p:cNvPicPr/>
          <p:nvPr/>
        </p:nvPicPr>
        <p:blipFill>
          <a:blip r:embed="rId1"/>
          <a:stretch/>
        </p:blipFill>
        <p:spPr>
          <a:xfrm>
            <a:off x="304920" y="457200"/>
            <a:ext cx="8556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-18432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Book Antiqua"/>
              </a:rPr>
              <a:t>3.  Exploration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              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*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Lewis &amp; Clark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Job:  Explore the new territory of Louisiana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Find a North West Passage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Find the true size of the territory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Discover Native Americans.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Describe Natural Resources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*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* Sacagawea-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Indian Woman,  Hired to be guide,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learned English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8390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acajawea shows Lewis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&amp; Clark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rough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e Louisiana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urchas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5" descr="288021w"/>
          <p:cNvPicPr/>
          <p:nvPr/>
        </p:nvPicPr>
        <p:blipFill>
          <a:blip r:embed="rId2"/>
          <a:stretch/>
        </p:blipFill>
        <p:spPr>
          <a:xfrm>
            <a:off x="4191120" y="1676520"/>
            <a:ext cx="49528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Industrial Revolution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Creation of a factory system and use of  mechanical tools to improve life and productio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Cotton Gin 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y Eli Whitney:1793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 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Steam Boat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5" descr="288026w"/>
          <p:cNvPicPr/>
          <p:nvPr/>
        </p:nvPicPr>
        <p:blipFill>
          <a:blip r:embed="rId2"/>
          <a:stretch/>
        </p:blipFill>
        <p:spPr>
          <a:xfrm>
            <a:off x="6095880" y="4095720"/>
            <a:ext cx="3048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27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New Land means they can move!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 roads and the 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NEW RAILROAD!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2" descr=""/>
          <p:cNvPicPr/>
          <p:nvPr/>
        </p:nvPicPr>
        <p:blipFill>
          <a:blip r:embed="rId1"/>
          <a:stretch/>
        </p:blipFill>
        <p:spPr>
          <a:xfrm>
            <a:off x="835200" y="-55440"/>
            <a:ext cx="7930800" cy="884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urope was in a war, and needed supplies from U.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eople in U.S. losing $$/ Supplies were cut of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British v. United States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itish help Native Americans to attack American settlemen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War Hawks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anted the U.S. to fight G.B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 they like wa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itish burn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ashington D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5" descr="287517w"/>
          <p:cNvPicPr/>
          <p:nvPr/>
        </p:nvPicPr>
        <p:blipFill>
          <a:blip r:embed="rId2"/>
          <a:stretch/>
        </p:blipFill>
        <p:spPr>
          <a:xfrm>
            <a:off x="5486400" y="4800600"/>
            <a:ext cx="3048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1:55:44Z</dcterms:created>
  <dc:creator>CCSD</dc:creator>
  <dc:description/>
  <cp:keywords/>
  <dc:language>en-US</dc:language>
  <cp:lastModifiedBy>Mobile Student</cp:lastModifiedBy>
  <dcterms:modified xsi:type="dcterms:W3CDTF">2015-02-22T22:05:56Z</dcterms:modified>
  <cp:revision>92</cp:revision>
  <dc:subject/>
  <dc:title>Westward Expans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775751033</vt:lpwstr>
  </property>
</Properties>
</file>